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7A7-5E88-4085-93D8-24119307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9C3-16F4-4096-831D-011E3A60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79C00-B37F-4C4C-8BD5-275C94FB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CE42C-67C5-4AF3-BC0A-CF957B09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8B9CD-BFA4-4581-A80B-340CEC18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D8FCC-5197-4906-BB48-F5A2233D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BF395-3619-47E6-9CF0-8E403E60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440F1-FB07-4CE5-A1DF-3A02447B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95B38-49A2-4C50-BA5F-A4243F08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A428B-F02D-4CCC-A4BA-D9DC59F7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328EB-8286-47BF-9B5B-71C1B6DC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4CEF1-B2B7-4F0F-870A-82CE0B50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929-B789-49F8-A0EF-274C62B8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C14CF-6040-4DE2-A038-D4426AB8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25A6D-4B2D-49F6-BC2A-541037DE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A0837-4882-461C-92C5-C0872779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28DFA-2AD2-4595-8F42-76F4CD61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AB1F7-B0B9-41F0-AD1F-479928DA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95BBE-2F66-4F41-8E6A-2CA71811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4C0CE-DF00-4D97-B0EF-E9F55442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043C5-EF95-4B54-BDE6-98889BA6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B1E43-CCEA-4C71-B649-FA395BC1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F45E1-0127-43B1-AE8F-328729C4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EFE-AF40-4821-8901-5EBEB237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55177-9201-46CB-B9F3-083C60BA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3D3AD-48C8-473F-9EAC-5DB742F9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53986-0B2B-4BCC-BFE0-89D52F50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4FE9B-9481-404F-A380-C01712B8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FAC63-18C6-4336-84FD-662F7F0B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38FC8-0125-4C51-8287-CAAE249A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F3B4E-0E77-43BF-90FE-537A0542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FB6DB-FE57-4F07-B3A9-68E7BAF4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AD660-BB60-4E29-9957-5A3782E9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62F63-62C8-490F-91F5-531E1B35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EE58-25F3-4C8C-BCC4-67B99E43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AD5CC-422B-498F-A29C-1FE620BA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B2EC0-F109-4242-805D-E23AD8FD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C7AB6-901C-427B-BC34-225E9BBF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219E2-8413-4EA5-B614-DE876019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ACB41-8629-4F33-BD53-CAFDE97C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D8C1E-2EF7-4555-9E72-F52B4A2E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F718A-AAFC-4E6F-8452-A3049734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71D8F-689B-44F9-9679-69D09906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8987A-2482-49FB-89D3-7847D5FF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5E693-322A-4274-85C3-761A6D14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2080-C99B-4EEE-95C1-D7948E55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0A956-F762-472A-85FB-E04A94DA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163BF-F86A-4671-81DC-7DE3DFF2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5BD97-9A1D-49E9-A375-48C0134A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D5B58-E9F3-4B79-BFCB-AFEF86D8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F5005-2B2C-417A-9785-39A199AE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58AB9-0E90-406F-BFF9-8BB7DBFE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E4D8E-622A-4762-B62D-0AFE48D4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3F879-877B-49E8-A289-A450C6E0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D0788-D0AC-4CA3-8C6B-D63EFCFA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698DD-FBC2-4A11-8640-D50FEA85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0BD8-51AC-4472-8FBF-DE22BC88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F61E45-1F61-4F0F-BAA4-1A0F26AB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145BFC-98C9-4D02-ACF9-6ADF69EB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A938B-7902-4852-8809-1C1E662F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3375E-620F-473C-9D77-FCF8423B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644ED-59C3-40A6-BC80-8B5A92B6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854F32-13F5-449D-A819-45196C47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4806F-87F5-451E-B0EC-8C99AE09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B979DA-7D96-42C5-A736-11FE68BD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A228C-D0A5-47A3-9E40-8B3FE5ED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DE287-4518-47AD-A188-A811DEA9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331E-E0B7-4A47-8DB7-D7AAC777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1BAF4-2E37-4E95-9AA0-8A303E20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63633E-A8D0-4A36-AF39-C8D8DFD7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9F95E-A26A-4752-987E-B5020F1F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22376-C841-4305-82B4-28B469C9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ADB40F-DC42-444C-843F-DC1458A0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083298-7322-4C30-A59F-6D659676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05EE66-C61A-4407-AD01-22278952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A8820-8020-446D-AA01-0E6D8539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D27B0F-ACE2-40F3-A24A-FB66882B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E4C0B-5E8E-43E1-8955-9F4E6766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75B6-0BBF-4C8C-A2CB-39DF1344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9A1C6A-127F-4DF4-9A82-373C0DE1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430487-28B7-44EC-9033-89A45D99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24AD90-7494-4B1D-80AB-7D4EDC96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BB5A03-E1E6-4756-9D3B-41C1ADBB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9B43BD-854E-4285-BC9F-D2446C49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EA36A0-A0B5-412B-B745-5D627EC4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47818-5DE2-4B76-9F6F-DB1DEC25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DCAB22-4278-4967-B93E-4F3AC835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2220B-6F88-4836-B46E-0D5A363C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8CE558-2FB5-4421-8574-29A2E15A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8294-4541-4F56-B29A-BC56939F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BBBE4C-33CB-4D98-9A53-F526CB6E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4C63CC-44E0-4B60-882A-6175A66D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B9512C-D43E-4BC2-9FF7-C9A76635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1C05CE-DC3C-4A7B-8437-233CCF41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82DCE-EA0B-47E9-AFE3-F8616A5D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035BFA-58AF-4493-B67D-E20B1A03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E9BD98-43C7-4059-A8E4-3E7189F0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57BA98-0633-4A29-9FDE-37FC7775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CD88C2-371E-4F3D-A1A1-6FE85A26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573B12-55DB-44FB-B9FA-EF578223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0F80-B8C4-47E2-BADB-C11372C8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EC701B-4713-4244-8560-839E90B0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96A8F9-375D-419D-B81C-06C53081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8B991C-0E0F-42DC-A901-878EA04A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F0E527-3264-4E05-B061-E9E1610D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3DAB8A-8629-42C5-8D37-62F0A6C9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CD7AE1-061E-4E1A-8E02-D4B99AB7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64479F-B8AC-4FC2-AE4D-95D51AF4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F5438F-DA59-4560-B6CA-53650C3D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3359CE-B7DB-445A-8815-BC6EECE9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755CD4-AC4B-4A15-80A4-6435E482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2CC-FC92-4378-A107-5938E493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AC2D-0EBE-4A10-96F1-6A484C08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2920E6-5BB6-4827-A88B-92D9D158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5829EE-2A36-4036-B8C9-8C352A4C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9003D2-A316-4B4B-BEB3-29D3F756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795358-9151-450B-B3DE-62296A4C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4EC98F-5D95-478D-96CB-D630EF3F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AF58B6-5BA9-4F20-8DC7-21CED40A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3F0CF6-129C-48F2-B00B-91589FA2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F26C12-7658-42D0-9A48-A1D686CC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E87B68-28DD-41B6-AAF1-CEC05B7A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381BBB-96E9-4E66-856A-F5884078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5D18-C816-4CAB-99A1-2CE01505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A13BA7-A064-48C3-8BD2-CBFA00AE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E5C15A-E8B9-4CF2-8F9B-9DF863AA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62E616-C32F-498A-AB13-89789B3E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ED7B8C-F959-4A3E-ADF1-3BA5750D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3D996A-B849-4E5A-8326-CB14CD14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47F3CC-FC7A-481F-84B4-9E8A8B40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D89512-6919-49A9-8E00-0A522054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79D29A-9804-4520-8D08-304B46C9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BD192D-42E5-4A3E-AFB9-A6D26240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98C70E-9637-4D44-912A-7D08519A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27C5-AB65-4B15-B8D7-F59A757F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73182C-D8A7-4EC9-AFDB-8D48C2C5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4843E2-7989-471C-90A8-EB8CA257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E87687-B3AF-4AB2-BC8B-A924AC3F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2B9103-066A-41C2-956E-6DCC2C0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348555-5B85-432C-817F-73337027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040C16-53AC-467D-B82B-C9638E53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0DE5AF-75D3-4655-90B7-3A46F72D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A77D2A-DE1C-4EF5-975E-1322AAEC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633C36-F480-4425-95C3-27EB15B8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3D1D61-59F0-40DC-AFFD-3241A9AD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2E4D-5E99-4414-84ED-22CD3184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629C47-5E13-4D5F-86C3-5CF48144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B9A67A-05E8-4030-86A3-4DF4B778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7AA718-BEA9-4FEE-B5F6-881D3E67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BFEDFE-5911-44D1-9A3E-C7CBA0E4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1B428B-CDA1-462E-8262-7B5CC5F2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BC4005-B98E-4797-9722-1D2DF8DF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196128-5EF2-4134-A9F5-4CAE2B4D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4C093D-9B87-49E9-8E8A-9375B9EB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6C5942-DB64-4ADB-B9F9-9F91348C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52A7A9-5F58-4D18-B17E-CF7138F1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FD95-AB2A-4366-9293-C420AD88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DE5D01-D480-4462-9104-753E2B12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CA7D99-3476-49B7-B4AF-17AD46B8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8C9966-5708-41B8-A055-E9952531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6DE56F-332B-4429-9A9D-F3F0AFB9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E88269-201D-4A15-BDE8-413CC1F9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CD0E91-D9F5-48C0-B6D9-9F1B5709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C4F6E8-0D47-45AD-9FA9-D8F1E486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CCBAE8-D630-4862-8AB6-8DD481A3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50CE59-D43B-4B65-B715-0515F18B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CA63C8-E0B1-41D2-B2F7-495AB405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82F98-A8BC-43C9-A5AB-3A02C4B8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12BF25-FEAE-4CEC-9CCB-7C027DCA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0E695B-42E9-41A9-A5DA-5837C12D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D198B3-F684-478D-B74C-CB3BE4C7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F38F4-60BD-4095-9780-0C73C286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C1B92-4FD8-412A-83DA-5F1D1B93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E4A29-B689-4AA8-8A62-F95CE210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1BC84-EE44-42C1-8AF9-D4E54D7B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E6E-47FA-4111-81A0-A4E44DAF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0D898-92CC-4500-A69E-086A03A4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602C9-F85B-4BD8-8A40-1D0C37C3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2E64-8452-4D86-8DCD-88EE5E21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AB157-571F-4F4D-BF4D-D924BECD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E6698-AD45-441A-ADB9-79A498EC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A1D1-77B5-4211-ACA4-157CCDD0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0FE18-F8D4-4798-896B-EAAA788B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244C3-CE7C-4B04-B841-9479564D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DDB20-3E6C-4394-8A3E-0AD34EFD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0E910-CD0E-4B79-B3B4-60A27D64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EEC-7340-428C-B0B0-574F6D7B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F2CD3-7C66-43C2-A203-4BF20534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B21CF-24A0-4D15-993F-EDEB63E9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0D764-213F-42D4-A013-527778BE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C4E41-F86A-4FCD-AC7A-5E03014E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277FA-4017-4547-837C-85CF642B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0F627-226D-44B9-B8F6-30936326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325B2-11BE-4E9A-84AE-3D287546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29696-710B-4F1E-A6A9-D299214E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F35D1-D95D-4024-B6D9-803B6D49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75F03-9CEC-46B5-808F-4455D918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E14-5C22-48F6-8B37-24AC102E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B9AD0-ECFC-4BB1-AF39-F271016B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B23EF-C630-40DE-A182-E81E9166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243F8-8F86-4CC6-8346-BE667D75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E90C8-9C98-49F5-BD27-BDAAD5C8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6378A-5DC0-4B94-AAE3-2FA2C348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FAD57-E77B-45AE-9B96-5C1346B4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EA178-69F6-4273-B36F-B7204A99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6C799-92C9-477B-A16C-327D027F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FEE8B-9678-4DD7-A26A-3139F96B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6C645-8A2B-4A76-ADD4-1D83F9BF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1B0-ABEC-4667-B651-291696BD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EEFC8-4765-4FDF-A71E-F8F4BC0C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3CD32-C14A-41EF-8DB6-3C7CBFE3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732A6-4CDF-4651-BB27-2041BB60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08626-4F2C-4430-9193-4CE9872F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1BC47-4852-4343-A9D4-289936A1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E044C-75E4-4F9E-AB7E-62953C4E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248AF-9E8D-4415-AEA5-B3B34032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B5909-5668-4CD1-B505-A0228A92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5E833-8EFE-4732-8D60-D88FD194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37EC8-8735-485E-86A4-15394CE1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672-161D-467E-9FC5-EF6CDACE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8D44C-150B-494F-934F-F1F76A96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DCC85-7139-449D-9B67-958BEF10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57DD6-D3C6-444F-AA26-4E8BBDD5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9A3F0-9884-403E-B32E-9911E1B0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DCC97-4E7B-4B94-A0AD-CADCD47D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423FF-EF50-4E70-8F55-4B026AE9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01DF1-7820-40A1-B121-F60441E1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D571D-E829-4EA9-8B0E-9B789CC3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872A1-BE34-4073-AA89-516EA8BF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4AD09-219D-4BF7-AFE4-A02D3644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E91-23BE-4D63-A0C4-EAC99238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49770-1403-4AD2-A5A3-22F0B9D2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B0FDD-5393-4D48-B749-F486EC8B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782B4-B2B0-4259-91AF-28CF8FAF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4F1FA-9113-43B9-9265-A9EB28EC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A35C2-F92B-49FF-8AB5-72FCC0AC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A7E22-43A5-4E4E-9378-D214198B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D7BDA-5B00-4A11-9889-CD451E23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28DC4-1B32-4845-9F52-936B7F2C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9E6CC-03C2-4BEE-87B8-0B10A19A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5ED56-C913-47B4-A883-D757B166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36E-45D4-48FB-B2E6-A1F54F2C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05400-7AD7-4A87-9F5A-466E8F31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5B785-D92F-444C-A8CF-9BCD4736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F0740-FAEB-404A-AD62-7DDD9E61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5A14F-746A-4196-830D-F12C9232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F7B0A-C74A-41F8-842E-00D33A32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4CFF1-0B1B-41D9-B15F-0691B9B0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26B68-50C6-4FE9-A533-C5BF0015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8F143-F017-490D-9C52-4EDE3BF0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10E77-8CA6-4EDB-8774-15D1A0B5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1EF75-727F-4D7D-9256-2231D88C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2BDD-908A-444D-985A-F1DADD6AA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8E4C-58A3-4C4D-8D1F-8B1780AE15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4FEA-D3E1-41B7-9D13-2129AE1AF0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CCBB-CE4D-42D2-B2CB-43410BE6F4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411D-C576-4C54-A46C-DC889AFD6C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DCB4-8166-499B-8B52-ADFC27DACE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5F7B-6D65-4DAB-AADD-BBE0768939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4D4D-A8FF-4F3D-9E79-28AAE204B6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77C0-B114-49FD-BA00-5F7C5707C6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FA12-BB75-4B82-B6F9-B4B5624DAB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28A0-0700-4931-AE18-CF0917ACCF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396E-FDA7-41E5-B0D6-71E04694F9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31A6-85BD-4C13-8A18-E4459709AF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8081-DE13-494B-9E5A-713A480D7F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82F6-8151-4708-BBAC-6EEFD979EB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2A6E-0AC4-43EB-A2AF-E647E52AFB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6486-9F31-48CF-9090-820E5F785E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C61C-1288-4BB5-8BD5-201DBEF19A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05F7-88F2-4487-9F16-982DF9143E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8E80-2401-49E0-BCFC-7640E1BFF2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05C3-953F-4BEF-8064-85395B7C00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1684-AEF8-44BC-9CDC-BDD4821532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CE54-953F-4823-8469-A23031D34F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55E5-060C-4045-92A6-6FE50D4434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96C0-85C6-4E81-884C-AF25F5D876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42E6-F159-471A-B73A-04820FB41A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C092-9416-46B6-8946-70FDE81EB2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413B-66A9-498C-AE38-5D9792608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355F-2AF2-4DD0-8414-F0139EE83A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4B94-C104-4FDE-B1C5-AB3227FBF3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EA03-49D4-4B6E-BA11-4A2E1491FB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D08C-48BC-4899-BAF7-8F4A4807A4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A640-147E-4EC3-BACA-EABD73C985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5A58-4143-4954-BBB4-AE9634A369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BC15-FE97-45EB-87E9-96AEE9C456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8BD1-D702-470F-93D5-2AA1706F47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7550-8F28-44C5-8EB3-83A842A946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7F96-DD53-418C-A64E-84CCB0D1A1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B544-E1BF-4AB1-B27B-D2A12480B5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8070-A3B2-4C03-A026-4C6E504534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50920" y="3402000"/>
            <a:ext cx="86770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826920" y="735120"/>
            <a:ext cx="7631280" cy="60786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979640" y="20541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1979640" y="3284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1979640" y="4508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2052720" y="573264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Picture 2" descr=""/>
          <p:cNvPicPr/>
          <p:nvPr/>
        </p:nvPicPr>
        <p:blipFill>
          <a:blip r:embed="rId1"/>
          <a:stretch/>
        </p:blipFill>
        <p:spPr>
          <a:xfrm>
            <a:off x="611280" y="739800"/>
            <a:ext cx="7975440" cy="60739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2"/>
          <a:stretch/>
        </p:blipFill>
        <p:spPr>
          <a:xfrm>
            <a:off x="3348000" y="25480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3500280" y="3171960"/>
            <a:ext cx="648000" cy="438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4"/>
          <a:stretch/>
        </p:blipFill>
        <p:spPr>
          <a:xfrm>
            <a:off x="3492360" y="4430880"/>
            <a:ext cx="648000" cy="438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3492360" y="5672160"/>
            <a:ext cx="648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538200" y="1198440"/>
            <a:ext cx="8067600" cy="50389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2"/>
          <a:stretch/>
        </p:blipFill>
        <p:spPr>
          <a:xfrm>
            <a:off x="3348000" y="12682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3"/>
          <a:stretch/>
        </p:blipFill>
        <p:spPr>
          <a:xfrm>
            <a:off x="1619280" y="3213000"/>
            <a:ext cx="649080" cy="438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4"/>
          <a:stretch/>
        </p:blipFill>
        <p:spPr>
          <a:xfrm>
            <a:off x="1619280" y="5151600"/>
            <a:ext cx="649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372440" cy="485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648000" cy="438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648000" cy="438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4"/>
          <a:stretch/>
        </p:blipFill>
        <p:spPr>
          <a:xfrm>
            <a:off x="1187280" y="4365720"/>
            <a:ext cx="648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004240" cy="61419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2"/>
          <a:stretch/>
        </p:blipFill>
        <p:spPr>
          <a:xfrm>
            <a:off x="1619280" y="1989000"/>
            <a:ext cx="649080" cy="438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3"/>
          <a:stretch/>
        </p:blipFill>
        <p:spPr>
          <a:xfrm>
            <a:off x="1619280" y="3927600"/>
            <a:ext cx="649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542880" y="930240"/>
            <a:ext cx="8058240" cy="56674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649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Picture 1" descr=""/>
          <p:cNvPicPr/>
          <p:nvPr/>
        </p:nvPicPr>
        <p:blipFill>
          <a:blip r:embed="rId1"/>
          <a:stretch/>
        </p:blipFill>
        <p:spPr>
          <a:xfrm>
            <a:off x="824040" y="981000"/>
            <a:ext cx="7495920" cy="55436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64908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3"/>
          <a:stretch/>
        </p:blipFill>
        <p:spPr>
          <a:xfrm>
            <a:off x="1258920" y="4076640"/>
            <a:ext cx="649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Picture 1" descr=""/>
          <p:cNvPicPr/>
          <p:nvPr/>
        </p:nvPicPr>
        <p:blipFill>
          <a:blip r:embed="rId1"/>
          <a:stretch/>
        </p:blipFill>
        <p:spPr>
          <a:xfrm>
            <a:off x="871560" y="1285920"/>
            <a:ext cx="7400880" cy="42861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2"/>
          <a:stretch/>
        </p:blipFill>
        <p:spPr>
          <a:xfrm>
            <a:off x="1258920" y="1335240"/>
            <a:ext cx="649080" cy="4381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3" descr=""/>
          <p:cNvPicPr/>
          <p:nvPr/>
        </p:nvPicPr>
        <p:blipFill>
          <a:blip r:embed="rId3"/>
          <a:stretch/>
        </p:blipFill>
        <p:spPr>
          <a:xfrm>
            <a:off x="1258920" y="3860640"/>
            <a:ext cx="64908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1:56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